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0481588" cy="45720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908DC-6648-4E65-9BD7-05D41FAD59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0" y="4064040"/>
            <a:ext cx="25904880" cy="76168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0" y="13207680"/>
            <a:ext cx="25904880" cy="130834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0" y="27534600"/>
            <a:ext cx="25904880" cy="130834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9FCAC-2064-449C-9FFD-57C1D7FC1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0" y="4064040"/>
            <a:ext cx="25904880" cy="76168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0" y="13207680"/>
            <a:ext cx="12641400" cy="130834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559920" y="13207680"/>
            <a:ext cx="12641400" cy="130834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0" y="27534600"/>
            <a:ext cx="12641400" cy="130834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559920" y="27534600"/>
            <a:ext cx="12641400" cy="130834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19A2-E023-4F6A-87D2-D1D4DD7DF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0" y="4064040"/>
            <a:ext cx="25904880" cy="76168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0" y="13207680"/>
            <a:ext cx="8341200" cy="130834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044800" y="13207680"/>
            <a:ext cx="8341200" cy="130834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803240" y="13207680"/>
            <a:ext cx="8341200" cy="130834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0" y="27534600"/>
            <a:ext cx="8341200" cy="130834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044800" y="27534600"/>
            <a:ext cx="8341200" cy="130834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803240" y="27534600"/>
            <a:ext cx="8341200" cy="130834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8089-D876-4BE8-8BDF-BE4CA11FA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0" y="4064040"/>
            <a:ext cx="25904880" cy="76168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0" y="13207680"/>
            <a:ext cx="25904880" cy="2742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76590-2C03-4D8A-86A4-828E6372E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0" y="4064040"/>
            <a:ext cx="25904880" cy="76168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0" y="13207680"/>
            <a:ext cx="25904880" cy="274287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136DA-48D3-4AE9-942B-1950F8FC9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0" y="4064040"/>
            <a:ext cx="25904880" cy="76168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0" y="13207680"/>
            <a:ext cx="12641400" cy="274287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559920" y="13207680"/>
            <a:ext cx="12641400" cy="274287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BB28-0B24-4D39-81FC-AB9010C84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0" y="4064040"/>
            <a:ext cx="25904880" cy="76168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8901-B15C-4B68-977C-3388272E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0" y="4064040"/>
            <a:ext cx="25904880" cy="353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38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BE6F-2346-4483-9A45-26EB87BB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0" y="4064040"/>
            <a:ext cx="25904880" cy="76168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0" y="13207680"/>
            <a:ext cx="12641400" cy="130834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559920" y="13207680"/>
            <a:ext cx="12641400" cy="274287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0" y="27534600"/>
            <a:ext cx="12641400" cy="130834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BE464-556D-476C-80E8-341BFAEDE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0" y="4064040"/>
            <a:ext cx="25904880" cy="76168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0" y="13207680"/>
            <a:ext cx="12641400" cy="274287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559920" y="13207680"/>
            <a:ext cx="12641400" cy="130834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559920" y="27534600"/>
            <a:ext cx="12641400" cy="130834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AED8F-F64D-4561-81DD-3025DF574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0" y="4064040"/>
            <a:ext cx="25904880" cy="76168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0" y="13207680"/>
            <a:ext cx="12641400" cy="130834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559920" y="13207680"/>
            <a:ext cx="12641400" cy="130834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0" y="27534600"/>
            <a:ext cx="25904880" cy="130834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81731-5310-4F65-AB4E-1DA88B840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0" y="4064040"/>
            <a:ext cx="25904880" cy="76168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1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0" y="13207680"/>
            <a:ext cx="25904880" cy="2742876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rmAutofit/>
          </a:bodyPr>
          <a:p>
            <a:pPr marL="343080" indent="0">
              <a:spcBef>
                <a:spcPts val="38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38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5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5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2286000" y="41655960"/>
            <a:ext cx="6346800" cy="30448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67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7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414080" y="41655960"/>
            <a:ext cx="9648720" cy="30448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67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" sz="67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844080" y="41655960"/>
            <a:ext cx="6346800" cy="3044880"/>
          </a:xfrm>
          <a:prstGeom prst="rect">
            <a:avLst/>
          </a:prstGeom>
          <a:noFill/>
          <a:ln w="0">
            <a:noFill/>
          </a:ln>
        </p:spPr>
        <p:txBody>
          <a:bodyPr lIns="435600" rIns="435600" tIns="217800" bIns="217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" sz="67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97334A-BB98-43CD-8458-80E84F53E3D9}" type="slidenum">
              <a:rPr b="0" lang="es-ES" sz="67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6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df2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19520" y="1447920"/>
            <a:ext cx="25679160" cy="4952880"/>
          </a:xfrm>
          <a:prstGeom prst="rect">
            <a:avLst/>
          </a:prstGeom>
          <a:solidFill>
            <a:srgbClr val="ffff99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27160" y="7823160"/>
            <a:ext cx="28117800" cy="4300200"/>
          </a:xfrm>
          <a:prstGeom prst="rect">
            <a:avLst/>
          </a:prstGeom>
          <a:solidFill>
            <a:srgbClr val="ffff99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  <a:tab algn="l" pos="27405000"/>
                <a:tab algn="l" pos="2785428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  <a:ea typeface="Arial"/>
              </a:rPr>
              <a:t>INTRODUCCIÓN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  <a:tab algn="l" pos="27405000"/>
                <a:tab algn="l" pos="2785428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  <a:ea typeface="Arial"/>
              </a:rPr>
              <a:t>Los fármacos AVK requieren controles periódicos del INR (International Normalized Ratio) en la consulta de anticoagulación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  <a:tab algn="l" pos="27405000"/>
                <a:tab algn="l" pos="2785428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  <a:ea typeface="Arial"/>
              </a:rPr>
              <a:t>El programa de autocontrol de fármacos AVK le permite al paciente, previo a una formación sanitaria, llevar a cabo los controles de INR en domicili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18353160"/>
            <a:ext cx="28270080" cy="6769080"/>
          </a:xfrm>
          <a:prstGeom prst="rect">
            <a:avLst/>
          </a:prstGeom>
          <a:solidFill>
            <a:srgbClr val="ffff99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  <a:tab algn="l" pos="27405000"/>
                <a:tab algn="l" pos="2785428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  <a:ea typeface="Arial"/>
              </a:rPr>
              <a:t>MATERIAL Y MÉTODO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  <a:tab algn="l" pos="27405000"/>
                <a:tab algn="l" pos="2785428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  <a:ea typeface="Arial"/>
              </a:rPr>
              <a:t>El programa de autocontrol del TAO, con fármacos AVK, se instauró en HUPE en Enero 2022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  <a:tab algn="l" pos="27405000"/>
                <a:tab algn="l" pos="2785428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  <a:ea typeface="Arial"/>
              </a:rPr>
              <a:t>Para incluir los pacientes en este programa, deben cumplir: indicación de anticoagulación a largo plazo, manejo del coagulometro, manejo de  nuevas tecnologías, y/o soporte familiar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  <a:tab algn="l" pos="27405000"/>
                <a:tab algn="l" pos="2785428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  <a:ea typeface="Arial"/>
              </a:rPr>
              <a:t>Para evaluar la eficacia del tratamiento, los datos se recogen de la historia clínica y programa de anticoagulación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  <a:tab algn="l" pos="27405000"/>
                <a:tab algn="l" pos="278542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066680" y="26134920"/>
            <a:ext cx="28286280" cy="6769080"/>
          </a:xfrm>
          <a:prstGeom prst="rect">
            <a:avLst/>
          </a:prstGeom>
          <a:solidFill>
            <a:srgbClr val="ffff99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  <a:tab algn="l" pos="27405000"/>
                <a:tab algn="l" pos="2785428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  <a:ea typeface="Arial"/>
              </a:rPr>
              <a:t>RESULTADO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  <a:tab algn="l" pos="27405000"/>
                <a:tab algn="l" pos="2785428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  <a:ea typeface="Arial"/>
              </a:rPr>
              <a:t>Se incluye un total de 8 pacientes. Media de edad es de 50 años (35-83). El 87,5% son hombres El principal motivo de anticoagulación fue la enfermedad tromboembólica de repetición (75%), 1 paciente con FA y otro con SAFy cardiopatía isquémica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  <a:tab algn="l" pos="27405000"/>
                <a:tab algn="l" pos="2785428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  <a:ea typeface="Arial"/>
              </a:rPr>
              <a:t>El 62,5% presentan estudio de trombofilia positivo: Deficit proteína C (80%) y Factor V leiden ( 20%). Media de TRT:68,82% (33,36- 100)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  <a:tab algn="l" pos="27405000"/>
                <a:tab algn="l" pos="2785428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  <a:ea typeface="Arial"/>
              </a:rPr>
              <a:t>Ningún paciente ha presentado complicaciones hemorrágicas durante este período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  <a:tab algn="l" pos="27405000"/>
                <a:tab algn="l" pos="2785428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86080" y="34702920"/>
            <a:ext cx="27736560" cy="10060920"/>
          </a:xfrm>
          <a:prstGeom prst="rect">
            <a:avLst/>
          </a:prstGeom>
          <a:solidFill>
            <a:srgbClr val="bfff0b">
              <a:alpha val="5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  <a:tab algn="l" pos="2740500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  <a:ea typeface="Arial"/>
              </a:rPr>
              <a:t>CONCLUSIONES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  <a:tab algn="l" pos="274050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  <a:ea typeface="Arial"/>
              </a:rPr>
              <a:t>Es muy importante realizar educación en estos pacientes para que adquieran los conocimientos necesarios para asegurar un correcto control de INR 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  <a:tab algn="l" pos="274050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  <a:ea typeface="Arial"/>
              </a:rPr>
              <a:t>De esta forma los pacientes ganan seguridad, autonomía, responsabilidad y conocimiento de su enfermedad, dando como resultado un aumento de la adherencia al tratamiento y una mejora significativa de la calidad de vida para mejorar el control en la toma de anticoagulantes orales , facilitando a determinados pacientes el autocontrol en la gestión de su tratamiento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  <a:tab algn="l" pos="274050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  <a:ea typeface="Arial"/>
              </a:rPr>
              <a:t>El periodo de aprendizaje es individualizado adaptándose a las necesidades de cada paciente, llevándose a cabo en la consulta de anticoagulación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  <a:tab algn="l" pos="274050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  <a:ea typeface="Times New Roman"/>
              </a:rPr>
              <a:t>    </a:t>
            </a:r>
            <a:r>
              <a:rPr b="0" lang="es-ES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  <a:tab algn="l" pos="274050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71720" y="12650760"/>
            <a:ext cx="28270080" cy="5123160"/>
          </a:xfrm>
          <a:prstGeom prst="rect">
            <a:avLst/>
          </a:prstGeom>
          <a:solidFill>
            <a:srgbClr val="ffff99">
              <a:alpha val="50000"/>
            </a:srgbClr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  <a:tab algn="l" pos="27405000"/>
                <a:tab algn="l" pos="27854280"/>
              </a:tabLst>
            </a:pPr>
            <a:r>
              <a:rPr b="1" lang="es-ES" sz="6000" spc="-1" strike="noStrike">
                <a:solidFill>
                  <a:srgbClr val="000000"/>
                </a:solidFill>
                <a:latin typeface="Arial"/>
                <a:ea typeface="Arial"/>
              </a:rPr>
              <a:t>OBJETIVOS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  <a:ea typeface="Arial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  <a:tab algn="l" pos="27405000"/>
                <a:tab algn="l" pos="2785428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  <a:ea typeface="Arial"/>
              </a:rPr>
              <a:t>Analizar las indicaciones de anticoagulación oral y evaluar el tiempo en rango terapéutico (TRT)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  <a:tab algn="l" pos="27405000"/>
                <a:tab algn="l" pos="2785428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  <a:ea typeface="Arial"/>
              </a:rPr>
              <a:t>Valorar la seguridad y eficacia del programa de autocontrol del tratamiento anticoagulante oral con fármacos AVK.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  <a:tab algn="l" pos="27405000"/>
                <a:tab algn="l" pos="2785428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s-ES" sz="5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51080" y="2243160"/>
            <a:ext cx="27209880" cy="34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</a:rPr>
              <a:t>EXPERIENCIA DE AUTOCONTROL DE ANTICOAGULACIÓN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</a:tabLst>
            </a:pPr>
            <a:r>
              <a:rPr b="1" lang="es-ES" sz="6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s-ES" sz="6600" spc="-1" strike="noStrike">
                <a:solidFill>
                  <a:srgbClr val="000000"/>
                </a:solidFill>
                <a:latin typeface="Arial"/>
              </a:rPr>
              <a:t>ORAL EN  NUESTRO HOSPITAL</a:t>
            </a:r>
            <a:r>
              <a:rPr b="1" lang="es-E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Gil Espinosa Noelia María , Ramírez Duque  Doris Adriana, Casaus García Luis Alber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  <a:tab algn="l" pos="11231640"/>
                <a:tab algn="l" pos="11680920"/>
                <a:tab algn="l" pos="12130200"/>
                <a:tab algn="l" pos="12579480"/>
                <a:tab algn="l" pos="13028760"/>
                <a:tab algn="l" pos="13478040"/>
                <a:tab algn="l" pos="13926960"/>
                <a:tab algn="l" pos="14376240"/>
                <a:tab algn="l" pos="14825520"/>
                <a:tab algn="l" pos="15274800"/>
                <a:tab algn="l" pos="15724080"/>
                <a:tab algn="l" pos="16173360"/>
                <a:tab algn="l" pos="16622640"/>
                <a:tab algn="l" pos="17071920"/>
                <a:tab algn="l" pos="17521200"/>
                <a:tab algn="l" pos="17970480"/>
                <a:tab algn="l" pos="18419760"/>
                <a:tab algn="l" pos="18869040"/>
                <a:tab algn="l" pos="19318320"/>
                <a:tab algn="l" pos="19767600"/>
                <a:tab algn="l" pos="20216880"/>
                <a:tab algn="l" pos="20666160"/>
                <a:tab algn="l" pos="21115440"/>
                <a:tab algn="l" pos="21564720"/>
                <a:tab algn="l" pos="22014000"/>
                <a:tab algn="l" pos="22463280"/>
                <a:tab algn="l" pos="22912560"/>
                <a:tab algn="l" pos="23361480"/>
                <a:tab algn="l" pos="23810760"/>
                <a:tab algn="l" pos="24260040"/>
                <a:tab algn="l" pos="24709320"/>
                <a:tab algn="l" pos="25158600"/>
                <a:tab algn="l" pos="25607880"/>
                <a:tab algn="l" pos="26057160"/>
                <a:tab algn="l" pos="26506440"/>
                <a:tab algn="l" pos="2695572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rvicio de Hematología,  Hospital Universitario Punta de Europa (Algecira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3T12:16:32Z</dcterms:created>
  <dc:creator>H.V.ROCIO</dc:creator>
  <dc:description/>
  <dc:language>en-US</dc:language>
  <cp:lastModifiedBy/>
  <dcterms:modified xsi:type="dcterms:W3CDTF">2023-06-30T11:50:23Z</dcterms:modified>
  <cp:revision>10</cp:revision>
  <dc:subject/>
  <dc:title>Presentación de PowerPoint</dc:title>
</cp:coreProperties>
</file>